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4C4-EAC9-464A-8F48-4527B8BE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199-83D2-4E41-A8DC-C4BE1E08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5D4-E187-47CF-9A9C-DE018CF7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FCE-B96D-4A8E-B889-06B85B1E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9F3-2B3B-4842-9C6E-A45DF074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118-EE87-4FBE-881C-B5194999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D6F-6F19-46D7-9898-47DFD57B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AF7-09EE-45DE-BECA-E7505B43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14C-0D9D-45DA-81E4-E7A24B46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938-89E6-4585-AB8A-4C61324B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E0E-A3EA-479C-AC5A-A9D4D499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86B-5BAE-4CF3-8354-C832D820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10480" y="4248000"/>
            <a:ext cx="2333520" cy="261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93D0-3BFC-4972-96C8-6E66BCA70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avcen.uscg.gov/pubs/gps/sigspec/default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 Security in the Mil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t, Present, and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5715000" cy="397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5257800"/>
            <a:ext cx="480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SAASM and Direct P(Y) Signal Acquisition, </a:t>
            </a: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GPS World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July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191280" cy="4184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6520" y="5638680"/>
            <a:ext cx="480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SAASM and Direct P(Y) Signal Acquisition, </a:t>
            </a: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GPS World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July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353280" cy="4759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0200" y="5867280"/>
            <a:ext cx="480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SAASM and Direct P(Y) Signal Acquisition, </a:t>
            </a: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GPS World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July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 – The M-code and Satellite Types IIR-M II-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R-M and II-F are basically equivalent in terms of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will utilize the new M-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roadcast at a higher power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ith all cryptography today, the security of GPS will only be compromised by human error or deliberate giving of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eps being taken try to reduce as much as possible the consequences of information leak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Bibl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Defense Magaz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SPS Signal Specification, 2nd Edition (June 2, 1995) -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avcen.uscg.gov/pubs/gps/sigspec/default.ht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the GPS M Code Signal -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tre.org/work/tech_papers/tech_papers_00/betz_overview/betz_overview.pd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/A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(Y)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key and black key crypt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A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arse Acquis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3 chips (PRN c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s every milli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be degraded by SA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lective Avail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but now is subject to “spoof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odulated (along with timing, ephemeris, and other almanac data – and the P(Y) code) onto the L1 frequency (1575.42 M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s a handover word (HOW) that aids in acquiring the P(Y)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00120" y="1481040"/>
            <a:ext cx="6143760" cy="343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4952880"/>
            <a:ext cx="464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http://www.sss-mag.com/pdf/Ss_jme_denayer_appl_print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619680" cy="438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5791320"/>
            <a:ext cx="480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ource: http://pnt.gov/outreach/ieee2004/5-ImprovingTheGPSL1Signal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(Y)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when unencry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when encry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s on both the L1 and L2 frequ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N repeats every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metric and Asymmetric Crypt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metric cryptography requires the (single) “red” key to be kept secr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metric cryptography has one “black” key for encryption and another for decryption – only the decryption key need be kept secr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the RSA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st — PPS-SM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cise Positioning Service Security Mod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2133720"/>
          <a:ext cx="8229600" cy="2270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 crypto-key, changed weekly or ye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distribution nightm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the C/A code on L1 and a handover word (HOW) to acquire P(Y) on L1 and L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itary missions might require the jamming of L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tion: SAASM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lective Availability Anti-Spoofing Mod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quires the P(Y) code directly without the C/A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s equipped with SAASM must go through a rigorous security system during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s both symmetric and asymmetric crypt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4:04:04Z</dcterms:created>
  <dc:creator>Andrew Goetz</dc:creator>
  <dc:description/>
  <dc:language>en-US</dc:language>
  <cp:lastModifiedBy>Andrew Goetz</cp:lastModifiedBy>
  <dcterms:modified xsi:type="dcterms:W3CDTF">2006-04-10T17:31:12Z</dcterms:modified>
  <cp:revision>8</cp:revision>
  <dc:subject/>
  <dc:title>GPS Security</dc:title>
</cp:coreProperties>
</file>