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5BA-2A80-4495-9977-1E40191A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5BE-1598-4185-9518-B1F25919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8D3-3E34-4A10-8783-99859A87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705-BF51-4318-8A74-EEC230BC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4FE-BC4A-40DD-AF5B-20DD8278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DBB-2218-450A-AB7B-9DF5656A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35A-6189-4CAE-889A-78FE147B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388-FB30-4C11-9D37-FF2B8679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477-A828-4CE1-BD4A-4A96210D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E16-5161-4E91-9C50-0CB00B2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64B-A4A3-465E-B155-25AFC62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5BA-4364-428E-B9F5-2FBB2B7C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10480" y="4248000"/>
            <a:ext cx="2333520" cy="261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DDA7-FF76-4D08-BF9E-BBC63E542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avcen.uscg.gov/pubs/gps/sigspec/default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 Security in the Mil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t, Present, and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715000" cy="397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5257800"/>
            <a:ext cx="480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SAASM and Direct P(Y) Signal Acquisition, </a:t>
            </a: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GPS World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July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191280" cy="4184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6520" y="5638680"/>
            <a:ext cx="480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SAASM and Direct P(Y) Signal Acquisition, </a:t>
            </a: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GPS World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July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353280" cy="475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0200" y="5867280"/>
            <a:ext cx="480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SAASM and Direct P(Y) Signal Acquisition, </a:t>
            </a: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GPS World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July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 – The M-code and Satellite Types IIR-M II-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R-M and II-F are basically equivalent in terms of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will utilize the new M-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roadcast at a higher power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ith all cryptography today, the security of GPS will only be compromised by human error or deliberate giving of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eps being taken try to reduce as much as possible the consequences of information leak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Bibl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Defense Magaz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SPS Signal Specification, 2nd Edition (June 2, 1995) -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avcen.uscg.gov/pubs/gps/sigspec/default.h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the GPS M Code Signal -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tre.org/work/tech_papers/tech_papers_00/betz_overview/betz_overview.pd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/A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(Y)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key and black key crypt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A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arse Acquis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3 chips (PRN c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s every milli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be degraded by SA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lective Avail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but now is subject to “spoof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odulated (along with timing, ephemeris, and other almanac data – and the P(Y) code) onto the L1 frequency (1575.42 M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s a handover word (HOW) that aids in acquiring the P(Y)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00120" y="1481040"/>
            <a:ext cx="6143760" cy="343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4952880"/>
            <a:ext cx="464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http://www.sss-mag.com/pdf/Ss_jme_denayer_appl_print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619680" cy="438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5791320"/>
            <a:ext cx="480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http://pnt.gov/outreach/ieee2004/5-ImprovingTheGPSL1Signal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(Y)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when unencry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when encry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s on both the L1 and L2 frequ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N repeats every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metric and Asymmetric Crypt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metric cryptography requires the (single) “red” key to be kept secr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metric cryptography has one “black” key for encryption and another for decryption – only the decryption key need be kept secr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the RSA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st — PPS-SM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cise Positioning Service Security Mod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2133720"/>
          <a:ext cx="8229600" cy="2270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 crypto-key, changed weekly or ye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istribution nightm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the C/A code on L1 and a handover word (HOW) to acquire P(Y) on L1 and L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itary missions might require the jamming of L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tion: SAASM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lective Availability Anti-Spoofing Mod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quires the P(Y) code directly without the C/A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s equipped with SAASM must go through a rigorous security system during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s both symmetric and asymmetric crypt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4:04:04Z</dcterms:created>
  <dc:creator>Andrew Goetz</dc:creator>
  <dc:description/>
  <dc:language>en-US</dc:language>
  <cp:lastModifiedBy>Andrew Goetz</cp:lastModifiedBy>
  <dcterms:modified xsi:type="dcterms:W3CDTF">2006-04-10T17:31:12Z</dcterms:modified>
  <cp:revision>8</cp:revision>
  <dc:subject/>
  <dc:title>GPS Security</dc:title>
</cp:coreProperties>
</file>